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9FE-0977-4492-8347-4C17F304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62B-7F57-45D5-AE88-E2BFB5EB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BB1-C02D-465A-8516-8B6BFC13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B5D-ACC2-4E38-A9E6-4B8A52AF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2F1-3923-4AEF-AA57-47A4EDB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04C-A5CA-44DF-988A-B8EA0FD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8A71-C653-4510-9B4B-D56839D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8BA-FD45-482D-89FF-52456F6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4411-F06A-4E72-98E1-B1D60AD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9258-A5E1-42AD-9A21-10E5E563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D6F5-37CB-43BD-B33D-BA42663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B20-F99B-4432-A45F-933F857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340-D189-4781-B04A-5BE47A0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CAA-FCA2-4BC0-8FA1-264BE88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E8D-1DAC-457F-A3E2-3CD1DA55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A508-D330-496E-A637-76EEF978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8304-D5E1-4797-AD99-4BA987C3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40EB-2443-490E-BB63-88C5139D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0641-C306-4DDE-B2A5-45768AA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8581-97DC-4C58-BA22-26ABC936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D03D-C95A-4BAD-A726-6CAE8B6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08EC-CD0D-46FF-810E-BB84BB29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DD1-F342-4802-A8C2-62515CD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7159-A455-411D-8AC6-7426BE7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1BA1-D037-4164-9828-A6F82FA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FAE7-2B65-4392-A8AE-15E5D50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1F87-288B-49FA-9110-D6CB5D0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E864-EA77-4E4C-95EA-6A355EA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923E-56AF-45EC-A482-0CF3DF2B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3E5B-AA42-4068-AAA1-03524ABE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F225-D82A-4D78-8523-A81F5DA5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29BA-E9D7-4E28-BF46-C5E8C32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1674-F07C-4E54-BB4E-CE0E062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38F-7602-4BBB-AE7F-D80337E1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FCF6-46B9-4C26-9604-597AA2B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C550-FA9D-4E5A-B8D1-6870717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91D1-4C73-4829-A145-B7C0C49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8406-65C6-4A27-9189-9C9DCD6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9184-FD57-4327-B762-E16ABC6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81CA-BA4F-44AC-AAE4-DA6CCE9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DA04-3C7B-4C2C-A7AE-78B4182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B1B1-9187-4C8C-86FE-6131A1EA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F491-8E2D-4AB1-B06F-523F0FE5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87E-D33E-486F-B850-7569F40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B69-E034-461B-8510-60E0161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AC5-1A30-4EFD-9DD1-350B571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0A8-0D72-4DC3-9054-BAA2906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A16-F97F-4D56-82BF-9E16BE8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492-BA9A-4666-8685-9C1F2A8C8B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2668-2BEB-427F-B957-3079E4184C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D9B0-2563-4895-862D-9A39752A24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DB8-D332-4490-A2BC-8EC5096B22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2480" y="6541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4000" y="1484280"/>
            <a:ext cx="838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У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снове вештине комун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2490840"/>
            <a:ext cx="61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4. наставна јединица (четвр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ицај карактеристика личности и социјалних специфичности на комуника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ионални аспекти вештине комуникације у здрав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194800" y="594360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ц. др Бранимир Радм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3352680"/>
            <a:ext cx="7772400" cy="293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висок степен толеранц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стрпље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аутентичну жељу да разуме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мира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када конкретну сугестију у решавању пробле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223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узимају затворенији ста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збегавају контакт оч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дефинишу јасно своје жеље и циљев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кудно говоре о својим тег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806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210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професионалне дистанц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јасних и тачних одгово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предузимати “акцију” разуверава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и разумевање ригид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491680" cy="1427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тавити утисак смирене и стрпљиве особе која аутентично охрабру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простора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одговарајућих објашњења везано за стра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ебним потре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штеће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овор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блем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ходом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арактериш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бјекти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оживља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баче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круж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ећ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 вредности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ид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амеж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ка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повер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мњича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но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тул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руп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снив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ињениц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олест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ред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ча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еди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јо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живим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зуел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перпециј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елесног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достат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исл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крет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аж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ра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ж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воцира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ак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еак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еш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важа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ишљ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веукуп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гнитив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пособ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ален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фон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н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ређе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бла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ини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људ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уд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ланов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руштве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једниц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уж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њихов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утентичн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мореализ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Constantia"/>
              </a:rPr>
              <a:t>Професионални аспект вештине комуникације здравствених радника подразуме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поседовање медицинских знањ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чување медицинске тајн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трпљив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марљивос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хума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та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одлу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енерги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брзин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прет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71360" y="835200"/>
            <a:ext cx="8064720" cy="907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нксиозно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деп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ре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8064720" cy="1427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варање амбијента поверења и сигур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сказивање емпатије и хуманистичког односа према пацијент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важавање лич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240760" cy="1182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неупадљивост у држању, понашању и спољашњем изглед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римерено одева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ред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спостављање контакта очима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утентичну заинтересованост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ав мирног, стрпљивог и заинтересованог слушао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осмех и љубаз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нашање које шаље поруку да пацијент и његова породица “нису сами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9920" y="1066680"/>
            <a:ext cx="82328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Constantia"/>
              </a:rPr>
              <a:t>Светска здравствена организација дефинише тимски рад ка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рад више стручњака на постизању заједничког циља. Тај рад не сме бити фрагментиран и неповезан, већ добро координиран од стране руководиоца тима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76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29920" y="1980720"/>
            <a:ext cx="823284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екипни тимски хијерархијски рад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(нпр.рад хирушког тим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процесни тимски рад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(нпр. интердисциплинарни тимски рад са децом ометеном у менталном развоју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Интердисциплинарни тим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чине особе које свакодневно раде заједно, које у решавању постављених циљева користе знање из своје области и своје надлежности, али кроз активну сарадњу са осталим члановима тим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22093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штовање унапред дефинисаног времена тимских састана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авање активног доприноса у изналажењу реше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звршавање својих обавеза у предвиђеном ро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очекиваног квантума знања из своје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искуства у тимским активнос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смисла за конструктивну тимску комуникациј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44440" y="835200"/>
            <a:ext cx="8070840" cy="987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квалитетну комуникацију између чланов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међусобно уважавање лич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премност за отворен, конструктиван и искрен дијало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пућивање јасних, недвосмислених порука другим члановим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44440" y="90792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ујету поједин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требу за привилегијом у груп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замену дефинисаног циља тежњом ка личном успех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нимозитет према колег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ривалит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било који облик опструкције тимског процес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више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јас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умљи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двосмисле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44440" y="9874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флексибил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толеран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алажење заједничких елемената (нпр.интересовања)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663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чк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дра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1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лиш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јатријск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2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пшт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т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ећ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адовољст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опс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са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ретеж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врем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3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ш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вој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лиз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нтелекту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изичк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моцион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4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ор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рађу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олин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ар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даптив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т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дно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одитељ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лега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ир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руш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руже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ачин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г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нач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змеђ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тал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ктивн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чекива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успех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азреш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нфликтн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итуаци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Марић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2001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2949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Независно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тип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болесник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сихопатолог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н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споља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мор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снов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инцип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муникац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,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в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ред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дразуме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тмосфе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верењ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игур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 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емпати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зража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утентич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заинтересова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свећеност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923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244440" y="450720"/>
            <a:ext cx="8070840" cy="1427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еуфор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драж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убрзан мисаони то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лако ступање у комуникацију са познатим и непознатим ос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често сумануте идеје о сопственој величи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хтеван став према окружењу и с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Здравствени радник у комуникацији са </a:t>
            </a:r>
            <a:r>
              <a:rPr b="0" i="1" lang="en-US" sz="2200" spc="-1" strike="noStrike">
                <a:solidFill>
                  <a:srgbClr val="ff0000"/>
                </a:solidFill>
                <a:latin typeface="Constantia"/>
              </a:rPr>
              <a:t>маничним пацијентом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”позива га” да се смири, нудећи му својим ставом и понашањем модел стрпљиве и смирене осо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29:15Z</dcterms:created>
  <dc:creator>Korisnik</dc:creator>
  <dc:description/>
  <dc:language>en-US</dc:language>
  <cp:lastModifiedBy>Windows User</cp:lastModifiedBy>
  <dcterms:modified xsi:type="dcterms:W3CDTF">2021-01-30T15:00:50Z</dcterms:modified>
  <cp:revision>30</cp:revision>
  <dc:subject/>
  <dc:title>Slide 1</dc:title>
</cp:coreProperties>
</file>